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8154-F6D5-41C3-B853-814A3A667E9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人群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感染非常普遍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-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已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抗体。初次感染多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，通常为隐性感染，一般无临床症状。通过人体的分泌物传播，如唾液、鼻涕、奶、尿、粪便、精液、宫颈分泌物。单独的病毒传染性并不是很强，传播需要密切接触。通常通过性传播，也可经产道、输血、器官移植传播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感染疱疹尽管比较痛苦，但一般不致命。在新生儿中却不是如此。新生儿疱疹通常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HV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。新生儿疱疹一般比较严重，口唇部感染的死亡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中枢神经系统感染后死亡率约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病毒可以通过胎盘屏障感染胎儿，但更多的是在出生时经母亲产道感染。孕妇若感染了疱疹病毒，即使无症状也应告诉医生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4931-E816-47A6-8A81-D6E3DA8E20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187AA-7AEE-41E6-BBCD-1D3E14AE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1CEA0-B39F-4952-BBFD-BFCE1E78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80F40-F996-427D-AAA1-80385D6D72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72B5B-E724-44D5-AEF7-87AFA0A8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7585-24FA-4617-9A3B-984655D1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0BC09-F614-4789-AD4F-23B331E8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B8D45-7029-4079-B587-94259A0D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23F4E-47D7-41F3-8D80-5813058B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FE14-BDCB-450D-87B3-DB10EAC7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F4A68-9F8A-477A-9D9E-8349F692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1D1F6-4B20-4EF9-BAB7-1D9BDB01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7053-771D-4822-916C-BC9F467FFAF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-1285920" y="364320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Herpesviridae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468360" y="271476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32</a:t>
            </a: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疱疹病毒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24-10_Varicella-zoster_0_L"/>
          <p:cNvPicPr/>
          <p:nvPr/>
        </p:nvPicPr>
        <p:blipFill>
          <a:blip r:embed="rId1"/>
          <a:stretch/>
        </p:blipFill>
        <p:spPr>
          <a:xfrm>
            <a:off x="1116000" y="1890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92360" y="558972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水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16405" t="17204" r="14844" b="10751"/>
          <a:stretch/>
        </p:blipFill>
        <p:spPr>
          <a:xfrm>
            <a:off x="4788000" y="765000"/>
            <a:ext cx="3556080" cy="460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24-09_Chickenpox_L"/>
          <p:cNvPicPr/>
          <p:nvPr/>
        </p:nvPicPr>
        <p:blipFill>
          <a:blip r:embed="rId2"/>
          <a:srcRect l="2769" t="1637" r="2769" b="5011"/>
          <a:stretch/>
        </p:blipFill>
        <p:spPr>
          <a:xfrm>
            <a:off x="1116000" y="692280"/>
            <a:ext cx="3321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86080" y="5072040"/>
            <a:ext cx="33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腰部带状疱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5" descr="带状疱疹3"/>
          <p:cNvPicPr/>
          <p:nvPr/>
        </p:nvPicPr>
        <p:blipFill>
          <a:blip r:embed="rId1"/>
          <a:srcRect l="15824" t="0" r="15155" b="19480"/>
          <a:stretch/>
        </p:blipFill>
        <p:spPr>
          <a:xfrm>
            <a:off x="395280" y="1268280"/>
            <a:ext cx="40575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16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8440" y="1214280"/>
            <a:ext cx="70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疫性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水痘后机体可产生持久的特异性细胞免疫和体液免疫，极少再发水痘；但不能阻止潜伏病毒被激活而发生带状疱疹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微生物学检查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的临床症状典型，一般不需做微生物学诊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Z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活疫苗预防水痘感染和传播有良好效果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可用阿昔洛韦、阿糖腺苷和高剂量干扰素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8440" y="2928960"/>
            <a:ext cx="3470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态结构与疱疹病毒相似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侵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55" name="Picture 4" descr="200305220013_11087"/>
          <p:cNvPicPr/>
          <p:nvPr/>
        </p:nvPicPr>
        <p:blipFill>
          <a:blip r:embed="rId1"/>
          <a:srcRect l="15923" t="0" r="21592" b="10755"/>
          <a:stretch/>
        </p:blipFill>
        <p:spPr>
          <a:xfrm>
            <a:off x="5072040" y="3071880"/>
            <a:ext cx="3532320" cy="2824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071720" y="1285920"/>
            <a:ext cx="7121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pstein-Barr 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201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唾液传播，经常在共用水杯或接吻时（“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kissing disease”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传染性单核细胞增多症的常用名称）；偶见经输血传染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口咽部上皮细胞内增殖，然后感染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血循环可造成全身性感染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长期潜伏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是体液和细胞免疫“内战”的结果。细胞毒性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杀死了感染的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7200" y="192852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洲儿童淋巴瘤（即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rkit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瘤）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咽癌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62" name="Picture 4" descr="24-13_EBV-Diseases_3_U"/>
          <p:cNvPicPr/>
          <p:nvPr/>
        </p:nvPicPr>
        <p:blipFill>
          <a:blip r:embed="rId1"/>
          <a:srcRect l="1377" t="495" r="11432" b="22992"/>
          <a:stretch/>
        </p:blipFill>
        <p:spPr>
          <a:xfrm>
            <a:off x="6588000" y="364500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4-13_EBV-Diseases_4_U"/>
          <p:cNvPicPr/>
          <p:nvPr/>
        </p:nvPicPr>
        <p:blipFill>
          <a:blip r:embed="rId2"/>
          <a:srcRect l="1253" t="1631" r="1253" b="12869"/>
          <a:stretch/>
        </p:blipFill>
        <p:spPr>
          <a:xfrm>
            <a:off x="4356000" y="3716280"/>
            <a:ext cx="187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4-13_EBV-Diseases_5_U"/>
          <p:cNvPicPr/>
          <p:nvPr/>
        </p:nvPicPr>
        <p:blipFill>
          <a:blip r:embed="rId3"/>
          <a:srcRect l="1228" t="1642" r="2522" b="18497"/>
          <a:stretch/>
        </p:blipFill>
        <p:spPr>
          <a:xfrm>
            <a:off x="1835280" y="4005360"/>
            <a:ext cx="2089080" cy="2031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243160" y="6093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982760" y="6093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症状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049520" y="609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伯基特淋巴瘤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5520" y="99972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8480" y="2071800"/>
            <a:ext cx="6800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培养困难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核酸杂交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法检测细胞内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及其表达产物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诊断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异性抗体的检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207180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减少由唾液、飞沫、血制品传播病毒的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用基因工程方法构建的同时表达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 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sA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疫苗，重点使用在鼻咽癌高发区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膜蛋白疫苗，正在英国大学生患者中作小规模接种，以期观察该疫苗是否能降低传染性单核细胞增多症的发病率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2600" y="2356920"/>
            <a:ext cx="5256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的细胞肿大，并具有巨大的核内包涵体，故名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典型的疱疹病毒形态，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也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感染的宿主范围和细胞范围均狭窄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高度的种属特异性，人巨细胞病毒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只能感染人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内包涵体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猫头鹰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73" name="Picture 6" descr="24-14_Cytomegalovirus_L"/>
          <p:cNvPicPr/>
          <p:nvPr/>
        </p:nvPicPr>
        <p:blipFill>
          <a:blip r:embed="rId1"/>
          <a:srcRect l="40404" t="0" r="23828" b="56130"/>
          <a:stretch/>
        </p:blipFill>
        <p:spPr>
          <a:xfrm>
            <a:off x="6000840" y="307188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43040" y="1000080"/>
            <a:ext cx="5977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巨细胞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ytomegalo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M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病毒的共同特点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680" y="2857680"/>
            <a:ext cx="4679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颗粒呈球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为双股线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包膜，包膜上有小刺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5" descr="hsv-3bc"/>
          <p:cNvPicPr/>
          <p:nvPr/>
        </p:nvPicPr>
        <p:blipFill>
          <a:blip r:embed="rId1"/>
          <a:srcRect l="0" t="2618" r="0" b="4768"/>
          <a:stretch/>
        </p:blipFill>
        <p:spPr>
          <a:xfrm>
            <a:off x="5076720" y="2781360"/>
            <a:ext cx="3814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28800" y="2071800"/>
            <a:ext cx="755316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天性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胎盘感染，可致巨细胞包涵体病，先天畸形，甚至流产或死胎 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产期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产道或哺乳感染，症状轻微或无临床症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童及成人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密切接触、性接触及输血感染，引起单核细胞增多症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胞转化和可能致癌作用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颈癌，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aposi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肉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071720"/>
            <a:ext cx="45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CM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常见感染类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7429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学检查：尿标本经离心后取沉渣涂片镜检，观察巨大细胞及细胞核内包涵体。  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分离：病人分泌物接种人胚成纤维细胞，观察细胞病变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检测：应用特异性单克隆抗体直接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晚期结构抗原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可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性感染作早期快速诊断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测：核酸杂交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病毒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检测：应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IS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 IgM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97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2357280"/>
            <a:ext cx="777240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断传播途径，减少传播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丙氧鸟苷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成，治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质性肺炎、视网膜炎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鳞甲酸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活性，减轻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ID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和移植受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症状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：有减毒活疫苗问世，但尚未大范围使用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 结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9720" y="250020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疱疹病毒、水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病毒的潜伏感染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致病性及所致疾病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巨细胞病毒的感染类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643280" y="3286080"/>
            <a:ext cx="41436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型疱疹病毒形态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有包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血清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12" descr="hsvimg01z"/>
          <p:cNvPicPr/>
          <p:nvPr/>
        </p:nvPicPr>
        <p:blipFill>
          <a:blip r:embed="rId1"/>
          <a:stretch/>
        </p:blipFill>
        <p:spPr>
          <a:xfrm>
            <a:off x="1285920" y="2928960"/>
            <a:ext cx="3105000" cy="3244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0040" y="1000080"/>
            <a:ext cx="8496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单纯疱疹病毒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erpes Simplex Virus, HS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86080" y="1071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原发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57120" y="192888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龈口炎、疱疹性角膜结膜炎、疱疹性脑炎、皮肤疱疹性湿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422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生殖器疱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8" descr="疱疹性齿龈炎"/>
          <p:cNvPicPr/>
          <p:nvPr/>
        </p:nvPicPr>
        <p:blipFill>
          <a:blip r:embed="rId1"/>
          <a:stretch/>
        </p:blipFill>
        <p:spPr>
          <a:xfrm>
            <a:off x="611280" y="2492280"/>
            <a:ext cx="2592360" cy="14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24-06_OralHerpes_L"/>
          <p:cNvPicPr/>
          <p:nvPr/>
        </p:nvPicPr>
        <p:blipFill>
          <a:blip r:embed="rId2"/>
          <a:srcRect l="1064" t="960" r="1064" b="5507"/>
          <a:stretch/>
        </p:blipFill>
        <p:spPr>
          <a:xfrm>
            <a:off x="3492360" y="2492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24-07_GenitalHerpes_L"/>
          <p:cNvPicPr/>
          <p:nvPr/>
        </p:nvPicPr>
        <p:blipFill>
          <a:blip r:embed="rId3"/>
          <a:srcRect l="1061" t="2069" r="1061" b="5665"/>
          <a:stretch/>
        </p:blipFill>
        <p:spPr>
          <a:xfrm>
            <a:off x="3276720" y="4724280"/>
            <a:ext cx="2592360" cy="17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唇疱疹"/>
          <p:cNvPicPr/>
          <p:nvPr/>
        </p:nvPicPr>
        <p:blipFill>
          <a:blip r:embed="rId4"/>
          <a:srcRect l="0" t="0" r="36685" b="44216"/>
          <a:stretch/>
        </p:blipFill>
        <p:spPr>
          <a:xfrm>
            <a:off x="5867280" y="2492280"/>
            <a:ext cx="2448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43120" y="157176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潜伏与复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2428920"/>
            <a:ext cx="4465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三叉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骶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体受到紫外线、发热、创伤、使用肾上腺素等影响后，约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病人会复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35640" y="1989000"/>
            <a:ext cx="3565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Picture 7" descr="latency"/>
          <p:cNvPicPr/>
          <p:nvPr/>
        </p:nvPicPr>
        <p:blipFill>
          <a:blip r:embed="rId1"/>
          <a:stretch/>
        </p:blipFill>
        <p:spPr>
          <a:xfrm>
            <a:off x="5148360" y="1928880"/>
            <a:ext cx="3995640" cy="20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24-08a_OcularHerpes_L"/>
          <p:cNvPicPr/>
          <p:nvPr/>
        </p:nvPicPr>
        <p:blipFill>
          <a:blip r:embed="rId2"/>
          <a:srcRect l="1061" t="2110" r="1061" b="14726"/>
          <a:stretch/>
        </p:blipFill>
        <p:spPr>
          <a:xfrm>
            <a:off x="5857920" y="4357800"/>
            <a:ext cx="25923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8880" y="121428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先天性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eczma"/>
          <p:cNvPicPr/>
          <p:nvPr/>
        </p:nvPicPr>
        <p:blipFill>
          <a:blip r:embed="rId1"/>
          <a:stretch/>
        </p:blipFill>
        <p:spPr>
          <a:xfrm>
            <a:off x="5435640" y="1773360"/>
            <a:ext cx="2903400" cy="21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55640" y="2060640"/>
            <a:ext cx="43210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分娩时均可通过产道感染新生儿，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。引起新生儿疱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儿疱疹一般比较严重，口唇部感染的死亡率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枢神经系统感染后死亡率约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胚胎期感染可引起先天畸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8" descr="新生儿疱疹"/>
          <p:cNvPicPr/>
          <p:nvPr/>
        </p:nvPicPr>
        <p:blipFill>
          <a:blip r:embed="rId2"/>
          <a:srcRect l="0" t="0" r="11518" b="20092"/>
          <a:stretch/>
        </p:blipFill>
        <p:spPr>
          <a:xfrm>
            <a:off x="5364000" y="4221000"/>
            <a:ext cx="302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488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同患者接触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剖宫产预防新生儿感染，给新生儿注射丙种球蛋白可作为应急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致癌可能性，减毒活疫苗和死疫苗不宜用于人体，包膜糖蛋白（提纯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亚单位疫苗尚在研制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治疗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 gC 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克隆抗体制成滴眼液，用于治疗疱疹性角膜炎，取得显著疗效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昔洛韦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对疱疹病毒有抑制作用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71360" y="2500200"/>
            <a:ext cx="705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性状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一个血清型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般实验动物和鸡胚中均不生长，只在猴或人成纤维细胞中增殖，病变缓慢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产生核内嗜酸性包涵体和形成多核巨细胞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40" name="Picture 4" descr="多核巨细胞"/>
          <p:cNvPicPr/>
          <p:nvPr/>
        </p:nvPicPr>
        <p:blipFill>
          <a:blip r:embed="rId1"/>
          <a:stretch/>
        </p:blipFill>
        <p:spPr>
          <a:xfrm>
            <a:off x="2643120" y="4500720"/>
            <a:ext cx="3721320" cy="1857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1071720"/>
            <a:ext cx="8856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–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Varicella–zosterVirus VZV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00080" y="1643040"/>
            <a:ext cx="69850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急性期患者，带状疱疹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飞沫传播或接触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易感人群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多见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~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儿童，好发于冬春季，高度传染；带状疱疹只见于患过水痘的成年人和老年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00080" y="4000680"/>
            <a:ext cx="6985080" cy="167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疹向心性分布，躯干比面部和四肢多，消退后不留疤痕，病情一般较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肤上沿感觉神经的通路发生串联水疱，形似带状，多见于胸部、腹部和面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714840" y="928800"/>
            <a:ext cx="2519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7:39:58Z</dcterms:modified>
  <cp:revision>86</cp:revision>
  <dc:subject/>
  <dc:title>内科护理学</dc:title>
</cp:coreProperties>
</file>